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430-EE75-4749-A055-8362675A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D12-077D-48A6-A379-A23723FF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EFC-89DF-48F0-AB4D-FB350579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0B3-15AD-4372-BBC9-FD6364AF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BB9-20C3-45CF-9CE1-5C35EB69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061-1148-41B8-A34C-58507577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B2C-384A-4FC0-94DA-3CC2F660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7D9-57DE-4689-9301-C471E480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7BE-A4EC-4D31-969C-DA8F6507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8A4-3C7A-422A-B392-FE3FB23E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D72-B955-43B8-99F9-E527F28E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2B6-3590-4CE3-A737-9A26C57B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DEFF-95F6-49DF-B706-9E5973F47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545040"/>
            <a:ext cx="79218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,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397368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7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62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аличие отделения следует показывать только тогда, когда в отчете имеются штатные и занятые должности врачей, проверить наличие лицензии на данный вид услу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 наличии отделения указать 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1"/>
          <p:cNvSpPr/>
          <p:nvPr/>
        </p:nvSpPr>
        <p:spPr>
          <a:xfrm>
            <a:off x="684360" y="5732640"/>
            <a:ext cx="806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100) Должности и физические лица медицинской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6021360"/>
          <a:ext cx="7921800" cy="365040"/>
        </p:xfrm>
        <a:graphic>
          <a:graphicData uri="http://schemas.openxmlformats.org/drawingml/2006/table">
            <a:tbl>
              <a:tblPr/>
              <a:tblGrid>
                <a:gridCol w="1451160"/>
                <a:gridCol w="309600"/>
                <a:gridCol w="363600"/>
                <a:gridCol w="365040"/>
                <a:gridCol w="365040"/>
                <a:gridCol w="316080"/>
                <a:gridCol w="365040"/>
                <a:gridCol w="365040"/>
                <a:gridCol w="420840"/>
                <a:gridCol w="527040"/>
                <a:gridCol w="585720"/>
                <a:gridCol w="353880"/>
                <a:gridCol w="365400"/>
                <a:gridCol w="374400"/>
                <a:gridCol w="465120"/>
                <a:gridCol w="463680"/>
                <a:gridCol w="465120"/>
              </a:tblGrid>
              <a:tr h="365040">
                <a:tc>
                  <a:txBody>
                    <a:bodyPr lIns="57600" rIns="57600" tIns="0" bIns="0" anchor="b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ологоана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371"/>
          <p:cNvSpPr/>
          <p:nvPr/>
        </p:nvSpPr>
        <p:spPr>
          <a:xfrm>
            <a:off x="949320" y="903960"/>
            <a:ext cx="11634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УКАЗАТЬ ПРИ НАЛИЧИИ , В ЦРБ, где есть отделения проставить количество только по строке 0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 (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л для аутопси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39640" y="367560"/>
            <a:ext cx="8425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АННУЮ ТАБЛИЦУ ЗАПОЛНЯЮТ ТОЛЬКО 3 УЧРЕЖДЕНИЯ: ЗКОД, КМЦ и ЗКПА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9800" y="690480"/>
            <a:ext cx="961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ЦРБ по вскрытиям - категория сложности 1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484280"/>
          <a:ext cx="8280360" cy="537696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 (сумма  вскрытий умерших в стационаре по 14 форме и умерших на дому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у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-во вскрытий умерших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     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в 2-х экземплярах и форму 14 и 30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ием отчетов осуществляется в ЗКПА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ерасимова Анастасия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ститель начальника по ОМР Жевтнева Елена Владимировна (тел. 31-44-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cp:lastPrinted>2023-12-13T07:13:07Z</cp:lastPrinted>
  <dcterms:modified xsi:type="dcterms:W3CDTF">2023-12-14T01:48:01Z</dcterms:modified>
  <cp:revision>61</cp:revision>
  <dc:subject/>
  <dc:title>Слайд 1</dc:title>
</cp:coreProperties>
</file>